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074-F78A-455A-8CED-1565BF8D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4FB-D83F-419A-892B-4DF157A5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ED609-C364-4982-A310-A93647F7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A9F8B-586B-4872-A8F7-1F5F4837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E19FA-B74D-407D-9DD9-C25DE62E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D52DB-760A-4451-A52B-3BC0A0A3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AB97E-7571-4292-8892-FBBC88FD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66244-11F1-4FEC-BE38-8F803C7F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E40B4-64FF-4717-B80B-2C5BDDD2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F6E0D-0F15-441D-8979-62EA9479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B4456-AB3A-4E5E-A0C7-6EE5AAB6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925-1B7F-4FC6-B1EA-D4C9FA0A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F15-F2BC-4C22-B5B4-E5696673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6469-BC02-412E-A458-2CD9CEC6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C10A-6467-4596-9E7C-F85897B0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54F4-E80D-41EF-8A89-CF542ECE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2BCD-2A9A-4BC4-B57A-5E03D251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1D5E-3498-4AA2-98DB-34CA2719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CBF6-C548-4711-A82F-50EEEBA3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55CB-14B8-4555-A4B5-62786E49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EFB-8CCE-45F5-AFF1-623059D6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EB5F-6ADA-4A86-A635-DA4C8AD3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6804-C949-40FE-AEB0-39C87B3C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7712-2BF5-40D2-BA01-B642E146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4371-F7F3-43B8-92E5-BC3668D6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C76F-7466-4A15-B8BC-6A6468B2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08A6-6D47-4F02-A74E-1D93AA31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73FA-8966-4588-89B4-FA38CDF0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CA4D-D9D6-4F32-81B2-BEB73538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A588-E67F-4D5E-A711-710A5BF8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AEEBC-FDF4-4BE0-8DD3-B86A5D1D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329-69DB-412F-8907-11D7695C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7F9C-73AD-48FB-A729-607AA5A8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3208-8BFB-4394-A0D4-66C04AD6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B9EC-FF63-40D2-831C-A8560F5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92CF-534E-43EA-A0A6-1621ED1F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AAD1A-842B-4FDB-9A90-73B9359D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68FD-BAF0-4551-88AD-CD62603F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C851F-3C4F-4423-B536-C57F222D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6BEF7-8BC0-4F9E-B1F2-294AF52D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19C60-1D81-4A8F-814D-E80EE549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847F-456F-406B-A06D-325AD90E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F72-B25E-4F77-BC63-8E8B25C7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8F5A7-7831-40DE-921F-DF7BBD04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55A96-B2BA-4492-B16C-5852A238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6198F-B7BA-4267-9469-957C5AF0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C8E8A-C6E7-41D0-A3AB-15C06B34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B030F-01E5-44B3-9077-03135933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AD9AE-40B0-4A94-B1D3-B4408545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78CB3-8545-403B-AEFD-18387B91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A968D-2C15-476E-9AF8-C69E19BA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7B61-EF9F-428B-ACB2-A0540B9C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C5C2-4095-47C6-873A-E6A5CD05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9D6-29F2-418E-8E6B-BFF067E0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76822-542C-468E-976F-2B528126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2417-33E5-42AF-96AE-A5D871B2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10E71-DA83-4CC5-8DAE-54EF26BD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1A3A-9976-4421-BF1D-0DFC533C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89F5A-1CB4-4ECC-9163-E063626A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AC8CE-F3C6-418F-92EF-E982AEA7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D11C5-D1A2-4843-A825-16E2E1BA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545DA-53FC-4741-91EC-617ABF9B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BB79C-9674-4E46-B9DC-51580325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F7B52-BE61-4CF2-9899-7A789736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CBF-EEA9-4D07-B159-B95C3036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15BC7-8743-4BBD-A356-F4D06FC0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D052B-C0BD-4B63-B972-CB875C42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46DFF-7570-489C-9B37-D34041C2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A44E5-9C5B-4E81-B82F-7E3065CA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437F-022C-40AF-9A3F-84EB62AD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0202C-5D70-402E-A6E6-44FDB71C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8FB37-F768-4979-A451-05684D5A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416BB-9DC1-487E-8B02-C148E02F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2EF3D-6236-465F-BCD5-56ACC052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93D30-3B52-467E-B29C-347F1FD0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E31-6DB0-4FA8-A7D9-4DD7C6AE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97B43-0FFC-4C8C-ACE8-7EDB6D7A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839CF-A072-41EB-BE75-9B67E118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F7B39-E1CE-4C51-A3F7-53AD6EB9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A70E-CE93-4628-A88C-0801CF9C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A62A8-EE6B-492F-8EFF-FCACED1F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B0CD4-61CC-46E5-BDFA-FB29EA7C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961BC-C7CE-44BA-8548-EFF067EA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30E53-B5F8-4CC7-B2C7-A1304444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1DEEA-756C-4667-8BF8-C161CAC9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B4ADA-102E-4A3F-BF63-36950C5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4FB-9EFA-4CEA-8DF7-0DF0995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8D7A6-050C-4379-ABF1-3C4C568C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4D8BC-D75C-45C5-80CD-C35F322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79884-947C-4D65-B230-CF13D64D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B9D38-E1B1-4A99-9E18-F823E704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6589F-3EF3-47A3-AA4B-FAFA1C6A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13D9C-73CF-4273-8F23-36736BBA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C99D8-24DE-43DB-BC90-5594038B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A5CC8-2ED8-4E28-9DAC-FF72D957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53371-D11F-4DBA-8043-A1A69262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E5E2C-A764-4BD0-83F4-5C9E734A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0EC-DFE9-4EC7-9F50-E849A55C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DD52E-61F4-4F33-A36D-01C1B8FF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EEA1E-698E-4785-9D64-D543CAB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184A5-8F70-41A4-99AF-EBDDA52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997F0-FB1D-4234-913C-38F9D8BF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51783-3A3D-4F03-85FB-AB5A3C23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7AB7E-AE40-4CDC-A83F-3F992167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FCDC7-1A73-48B6-8033-07A0E535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A41DD-1DC7-4195-87EB-BE8C508A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9365D-D9EE-4C5D-B3B6-086E7E49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60311-FCF5-4EB8-AE74-2A46BC42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線接點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07AA-574F-4F11-AD52-465EEEFE5F4D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線接點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線接點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直線接點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線接點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線接點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4A4A-0455-409F-BBEC-E7B4A3276BC3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線接點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直線接點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線接點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直線接點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線接點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8655-3CEB-451E-9B16-B1E4E7BE4974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線接點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線接點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FD66-4EAE-4D17-A655-E26D9CFA9F6E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線接點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線接點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1AB6-2B95-4BC7-9E5F-962A93FBE4DE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B585-4A26-4F03-ADF4-FD89880A3A7B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線接點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線接點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1CA1-E1CF-47B0-9823-DE5F4237A1EC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C51C-65E8-435B-A67F-1457046EDDCB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D7FA-6601-48C9-8266-3F6DDBDD9FC4}" type="slidenum">
              <a:rPr b="0" lang="zh-TW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標題 1" descr=""/>
          <p:cNvPicPr/>
          <p:nvPr/>
        </p:nvPicPr>
        <p:blipFill>
          <a:blip r:embed="rId2"/>
          <a:stretch/>
        </p:blipFill>
        <p:spPr>
          <a:xfrm>
            <a:off x="12600" y="390600"/>
            <a:ext cx="8375760" cy="4114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403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趙陶暄、蔡瑞琪、陳思琦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（第</a:t>
            </a:r>
            <a:r>
              <a:rPr b="0" lang="en-US" sz="4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56</a:t>
            </a:r>
            <a:r>
              <a:rPr b="0" lang="zh-CN" sz="4400" spc="-1" strike="noStrike">
                <a:solidFill>
                  <a:srgbClr val="443329"/>
                </a:solidFill>
                <a:latin typeface="Franklin Gothic Book"/>
                <a:ea typeface="华文楷体"/>
              </a:rPr>
              <a:t>頁）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標題 1" descr=""/>
          <p:cNvPicPr/>
          <p:nvPr/>
        </p:nvPicPr>
        <p:blipFill>
          <a:blip r:embed="rId2"/>
          <a:stretch/>
        </p:blipFill>
        <p:spPr>
          <a:xfrm>
            <a:off x="-36360" y="133200"/>
            <a:ext cx="8667720" cy="2092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純真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天真、幼稚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不會放過任何一個問問題的機會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標題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40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負責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誠懇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荒謬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守規矩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樂意為大衆服務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努力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盡責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自卑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忠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標題 1" descr=""/>
          <p:cNvPicPr/>
          <p:nvPr/>
        </p:nvPicPr>
        <p:blipFill>
          <a:blip r:embed="rId2"/>
          <a:stretch/>
        </p:blipFill>
        <p:spPr>
          <a:xfrm>
            <a:off x="12600" y="324000"/>
            <a:ext cx="8985240" cy="1504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羣星中最小一顆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面積緊夠一盞路燈和一位點燈人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沒有房屋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沒有居民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跨三步就可以繞一圈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標題 1" descr=""/>
          <p:cNvPicPr/>
          <p:nvPr/>
        </p:nvPicPr>
        <p:blipFill>
          <a:blip r:embed="rId2"/>
          <a:stretch/>
        </p:blipFill>
        <p:spPr>
          <a:xfrm>
            <a:off x="12600" y="324000"/>
            <a:ext cx="8985240" cy="1504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小王子到訪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看到正在點燈的點燈人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因爲星球轉的越來越快，一分鐘就要點一次燈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小王子便離開了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標題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401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“</a:t>
            </a:r>
            <a:r>
              <a:rPr b="0" lang="zh-CN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可能這個人的行爲荒謬。決不會比國王、愛虛榮的人、商人、酒鬼更荒謬。他的工作有一種意義。把燈點了好比添上了一顆星或一朵花。他把燈熄滅，是讓花朵或星星睡覺。這是一件美的工作。這才是有益的，因爲它美麗。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”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標題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401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蔡瑞琪：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我覺得他很負責任。雖然星球上沒有居民，但他也很盡責，一直緊守崗位！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趙陶暄：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我很欣賞點燈人。既然星球上沒有居民，他大可以偷懶、睡覺、休息。雖然他的行爲值得別人恥笑，但是，卻反映了他對工作的熱誠及樂觀的態度。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陳思琦：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我認爲點燈人很無聊。他那麽喜歡睡覺，又不敢不守規則。我想知道，他爲什麽不去一個有人的星球點燈？我覺得他很可悲，既然他知道自己的工作不堪忍受，爲什麽不去做別的事情？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標題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401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到底點燈人對路燈有沒有感情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是否就像小王子對玫瑰一樣，又愛又恨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這盞燈是令點燈人不能睡覺的原因，但是又陪伴了他那麽久，點燈人會不會像小王子一樣愛著玫瑰一樣，愛路燈呢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點燈人一直都那麽負責任，他是對工作有一種沒有人可以感受的熱誠，還是被迫呢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4e3b30"/>
                </a:solidFill>
                <a:latin typeface="Franklin Gothic Book"/>
                <a:ea typeface="华文楷体"/>
              </a:rPr>
              <a:t>謝謝觀賞！</a:t>
            </a:r>
            <a:endParaRPr b="0" lang="en-US" sz="10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4:05:38Z</dcterms:created>
  <dc:creator>User</dc:creator>
  <dc:description/>
  <dc:language>en-US</dc:language>
  <cp:lastModifiedBy>carollam</cp:lastModifiedBy>
  <dcterms:modified xsi:type="dcterms:W3CDTF">2011-05-24T04:43:44Z</dcterms:modified>
  <cp:revision>20</cp:revision>
  <dc:subject/>
  <dc:title>小王子-點燈人</dc:title>
</cp:coreProperties>
</file>